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A4E7-E891-49E2-91DD-761D8CC8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CB1E-2774-41FB-BB68-1CD82CE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F4DC-7090-4C76-9BA8-D6CC4DAE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4802-1190-4730-B297-E78DA010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1E72-B5DB-48C3-A1FF-537AF83A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3E85-EF03-408A-8EDA-4730806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F031-DEE4-4E18-8F97-2C65D48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D509-D723-47DF-A893-04EA34D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5E06-132A-4BD2-AE53-6337AF04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95B-F4BA-41BE-A57A-0A6AC6B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FA7F-CFD2-4491-9C62-37B5C33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6D58-140C-4CA7-AC10-F34B50C8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2CE1-0D03-4D00-9E9C-F414C61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FB99-3176-428B-B6B4-39FFFDD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B166-2703-4F30-A58B-6BA3CD3B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372E-926D-4884-9E25-0BB9B3FE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9306-3823-459F-89C5-1A5C1017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4316-4B48-4FBD-8E16-49972BCC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378D-D4FE-4F0C-B16B-4B0C62D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D5FE-2BC3-4305-AEEE-78FA7BC7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3567-49E0-41C2-8621-3A2A3527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DFEB-2BD7-4B45-AEE6-650F1295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33DF-D742-4199-AE8C-A46B9AEB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DB6E-D11B-43ED-94DA-7F508026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3760-6558-424F-8582-04E5564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8D04-64B5-4EB4-BB59-48DE359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10C6-4FB8-4583-8A7E-0A23025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44FA-8F49-49E8-B3A5-69B30901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BB98-BD26-4997-BC93-4C7B2D34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06DD-0CAF-4754-8B08-4CF157D5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06EA-172A-421A-9E8B-67B54316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2E2B-96FA-445D-B1E7-CE73D4AE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EB62-F938-4A82-8F32-85AD2A82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CDB6-3F12-4472-BD2A-6C4D14BA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B7BD-28BE-472F-93AE-05765B67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CA43-05C6-4B8E-AB7C-1EEAD20C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E930-01DC-4749-BA93-05E0F06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19E1-55CF-478A-93FA-A858145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5B948-8960-41ED-9629-4FB076A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91328-B8F6-4196-AD59-26F16D9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3BEEB-29BD-4860-84F3-6D0864D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EB085-52E1-475B-B42E-6D30E719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CAF2-D032-4A11-89E0-E3EC6C76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CEB9-7013-48BB-B2CF-E7DAF2DE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C0D3-AC3B-4387-AD34-0F8E561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682C-6D78-464C-9D65-36AC2B2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73A5-F60C-49A1-B16E-2A911A0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414C-1069-4EAE-9EE3-75DAEC81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7D67-7A1A-497F-9030-710994F66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939D-33CF-4240-BA67-2DAD0CC3A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00F-E039-4E51-A19D-134273D216C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181-1DE4-403A-BF8A-527551C9102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4572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Что дают нам в жизни десятичные дроб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133720"/>
            <a:ext cx="6324840" cy="32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изучение десятичных дроб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знакомиться с особенностями десятичных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2.Выяснить, какие действия можно выполнять с десятичными дроб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рав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5,0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7,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,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5,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00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00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8,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5,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9,6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50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,5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3,6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,78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,71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жение и вычитание десятичных дроб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581280" y="4191120"/>
                <a:ext cx="20574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1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762120" y="1523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ложим десятичные дроби 3,7 и 2,651. Сначала уравняем количество цифр после запятой, приписав к первой дроби два нуля справа: 3,7 = 3,7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тем складываем столб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048120" y="449568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 flipH="1">
            <a:off x="3200040" y="52578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Алгоритм сложения 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( вычитания ) десятичных дроб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480060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  Поставить в ответе запятую под запятой в данных дроб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2205000"/>
            <a:ext cx="71625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  Записать дроби друг под другом так, чтобы запятая была под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3962520"/>
            <a:ext cx="6705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ыполнить сложение (вычитание), не обращая внимания   на  запятую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3200400"/>
            <a:ext cx="6477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 Уравнять в дробях количество знаков после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ак, подведем итоги. Мы выяснили как записываются десятичные дроби, как читаются, как сравниваются, как складываются и вычит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изучили десятичные дроби, теперь мы многое о них знаем, будем использовать их в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и ученики 5 «г» класса, группа «Теоретиков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доров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арин Па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кова 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утин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ленкин Н.Я., Жохов В.И., Чесноков А.С., Шварцбурд С.И – математика 5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Числа  со  знаменателем </a:t>
            </a:r>
            <a:br>
              <a:rPr sz="3600"/>
            </a:b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10;  100; 1000 и т.д.  условились  записывать  без  знамен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Рассмотрим число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81480" y="3200400"/>
                <a:ext cx="2438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40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писываем целую часть числа  и  ставим  запят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927000" y="4024440"/>
                <a:ext cx="36514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38480" y="4038480"/>
                <a:ext cx="152712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40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0000ff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осле запятой  поставим  столько  точек,  сколько  нулей  в знаменателе  дробной 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371600" y="4191120"/>
                <a:ext cx="236232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9880" y="4343400"/>
                <a:ext cx="281952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737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  последней  точки  записываем числитель, начиная  с последнего  зна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990720" y="4191120"/>
                <a:ext cx="23619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505320" y="4343400"/>
                <a:ext cx="358128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oper Black"/>
              </a:rPr>
              <a:t>АЛГОРИТ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7374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ff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  пустые  места записываем  ну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2120" y="2971800"/>
                <a:ext cx="236196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124080" y="3200400"/>
                <a:ext cx="411480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04920" y="487692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Так  как  эти числа  равны, то десятичную  дробь  читают  аналогич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семь  цел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тридцать четы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десятитысяч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55680" y="1980720"/>
            <a:ext cx="3629160" cy="1876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854240" y="3989520"/>
            <a:ext cx="3632040" cy="18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828800" y="609480"/>
                <a:ext cx="35812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0"/>
            <a:ext cx="4388040" cy="11955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214200" y="535788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alibri"/>
              </a:rPr>
              <a:t>4. Оставшиеся точки заменяем ну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500040" y="41148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. С последней точки записываем числитель, начиная с последнего зн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380880" y="236232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2. После запятой поставим столько точек, сколько нулей в знаменателе дробной ч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762120" y="12952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Записываем целую часть числа и ставим запяту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685800" y="228600"/>
            <a:ext cx="7162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ff"/>
                </a:solidFill>
                <a:latin typeface="Calibri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Сравнение десятичных дробей</a:t>
            </a:r>
            <a:r>
              <a:rPr b="1" i="1" lang="en-US" sz="48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авило с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312408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) Если целые части десятичных дробей различны, то больше та дробь, у которой больше цел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2)Если целые части десятичных дробей одинаковы, то больше та дробь, у которой больше первый из несовпавших разрядов после запят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23T18:45:0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